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1B7-F948-4559-81EF-44DC8B67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7D4-2DBE-496C-B2DA-69DEE261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ABF-552A-4384-8C45-A3A29DAD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86B-3381-4667-BD99-04AB4BA5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D303-1675-46BC-BED5-1BE538CC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BD07-9257-4FB4-8261-B1979D57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D66C-D299-4706-BE4E-8C8BF12A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C82A-470C-4BCB-9541-9BBC41AF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DB98-2E75-4F28-986D-98669F73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3DEC-4FCE-43EA-A4FF-B658B403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8818-5CEC-4034-813A-4618055F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496-58F4-4832-902C-FF6C572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1D10-1C80-431F-B0A4-FE15AE60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A773-AD26-4FA9-978B-B70114C9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7824-C9A0-45F0-A821-6E3CDD79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CA24-D2F3-4F22-A783-30684740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E909-B0F9-4C90-B10B-180FA1B3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471-83F4-4BBA-B683-A6BA2206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883-B18F-4B87-B90F-93940A6F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DA3-BCBA-4C1E-B3FC-EFD99BB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314-4FA3-4411-8050-585F9556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0EB-78DD-4982-BB95-71BD13E4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862-3A46-48E7-9ECE-2D916D5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6F3E-C7E7-4A2D-B621-9904263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375F-E4E9-4AD0-B67F-3D36B78EF15A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91A3-5C11-4DD1-8A2B-D301B9D28BF3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Sir, We Would See Jesu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7720" y="373356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arter 9, Lesson 2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uke 1:57-80; Matt.1:18-25; Luke 2:1-38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ges 8-11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562720" y="1371600"/>
            <a:ext cx="331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ingdom of Hero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rea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7162920" cy="5434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286000" y="0"/>
            <a:ext cx="43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llow The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914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hle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zare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br>
              <a:rPr sz="32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Luke 1:57-80</a:t>
            </a:r>
            <a:endParaRPr b="0" i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e birth of John the Bapti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ohn would live as a Nazarit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ircumcised and named on the eight da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acharias then began to speak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mission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prepare the people for the Lord’s com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make the crooked ways straight, the rough ways smooth, Luke 3:4-5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acharias praised Jesus and his own s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mson and Samuel were also Nazarit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Birth of Jesu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gel announces the birth of Jesus to Joseph (Matt.1:18-25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Place was Bethlehem –Micah 5:2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gels announce the birth of Jesus to Shepherds (Lk.2:8-20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irth of John the Baptist – Lk.1:57-80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he Birth of Jesu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ircumcision and naming of Jesus (Lk.2:21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ation of Jesus at the Temple (Lk.2:22-24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meon’s words about the baby – 25-35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na the Prophetess – 36-38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At The Temple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0060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2:35:03Z</dcterms:created>
  <dc:creator> Tab Vines</dc:creator>
  <dc:description/>
  <dc:language>en-US</dc:language>
  <cp:lastModifiedBy>Frank D Vines</cp:lastModifiedBy>
  <dcterms:modified xsi:type="dcterms:W3CDTF">2006-04-10T00:39:53Z</dcterms:modified>
  <cp:revision>4</cp:revision>
  <dc:subject/>
  <dc:title>Sir, We Would See Jesus</dc:title>
</cp:coreProperties>
</file>